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60B-F4B1-44D8-86CE-8E53B304E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C08-A5F6-4C55-BE27-EC6B9EE7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C92-DC37-49C1-846F-EDF12614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80D-7313-462B-A2F1-4EDB529C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E22-4DFF-4517-873B-07C2BED3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C00-4216-4542-A855-3883E6C1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C38-5320-40DC-A154-A8C28EA0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47D-EA0B-47B4-BE0E-BD60892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02B-3911-4B03-9154-21CCB6F7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2BF-7EEF-4BFF-8B8A-6516CF67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D0E-A8D0-4AF8-996F-117D345A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AEE-B582-4F83-9D75-83284FDE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9A44-5520-4A50-95D1-0591D51B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 15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equations into y=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 without a variable is the y-intercept.  Graph it on the y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lope to find additional points.  Remember, slope is rise/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090600" cy="317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solution of a system of linear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a system graph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lopes to identify consistent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ystem of equ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of equ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wo or more related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linear system of equations is an ordered pair of real numbers (x, y) that satisfy all of the equations in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a system of linear equation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y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090600" cy="31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0120" y="3809880"/>
            <a:ext cx="838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867280" y="3276360"/>
            <a:ext cx="2286000" cy="23619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048120"/>
            <a:ext cx="1752840" cy="175248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-x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x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-3y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090600" cy="3171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7010280" y="2895480"/>
            <a:ext cx="1371600" cy="274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705360" y="2743200"/>
            <a:ext cx="1523880" cy="297180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2x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2x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3581280"/>
            <a:ext cx="198108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tersection! this is called an inconsistent syst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find the solution by grap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-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-2y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each equation for y, and grap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section of the two lines is the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090600" cy="31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6477120" y="2895480"/>
            <a:ext cx="1295280" cy="2819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400800" y="2819520"/>
            <a:ext cx="1447920" cy="3047760"/>
          </a:xfrm>
          <a:prstGeom prst="line">
            <a:avLst/>
          </a:prstGeom>
          <a:ln w="38160">
            <a:solidFill>
              <a:srgbClr val="99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190512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y= 2x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y= 2x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2767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the same! this is called a depend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you determine if a system is consist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consistent, the line may not have the sam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sl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equation into y=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fficient of x is the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se consist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 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-2y=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= 2x +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5y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0:41:43Z</dcterms:created>
  <dc:creator>nuhs</dc:creator>
  <dc:description/>
  <dc:language>en-US</dc:language>
  <cp:lastModifiedBy>nuhs</cp:lastModifiedBy>
  <dcterms:modified xsi:type="dcterms:W3CDTF">2007-10-15T19:52:14Z</dcterms:modified>
  <cp:revision>15</cp:revision>
  <dc:subject/>
  <dc:title>Algebra 2A</dc:title>
</cp:coreProperties>
</file>